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dt" idx="37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 type="ftr" idx="38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6"/>
          <p:cNvSpPr>
            <a:spLocks noGrp="1"/>
          </p:cNvSpPr>
          <p:nvPr>
            <p:ph type="sldNum" idx="39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045F7-B9D0-4DF0-A1AB-AD45CBB32FD1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1BA33-211A-4E92-8ED8-11081F3C410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7F4B5-0E15-4158-8FCB-D233A27CEB07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4F82B-C9E4-48B7-8744-D3D80BA44FEF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FD842-A028-47AE-8C54-7E42E9BAA49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3DE46-D4CF-4C84-BFDD-8AB0D57A73F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A7A78-4ADE-4542-A211-80FC7F46E29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F709B-0A34-401A-B55D-130829B3C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8754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05012-A5F7-4329-828F-EE5B03EC2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7DC9CA-425C-4A44-81E0-0D12EC597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F6AAB4-6683-464C-ACE3-B16E6062D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38088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383EBF-7FED-444B-AA3B-772DECF6D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243260-A6D8-40A4-BBB7-6B2110697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67424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C9B19D-2B83-4D68-9EF3-D0865F46F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9BDB33-A81D-4B55-9084-6E2E4457B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57200" y="38754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8C48EB-4080-434E-AB67-290687556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67424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C7F72A-09C4-4A6F-9B0C-84793260E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5720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/>
          </p:nvPr>
        </p:nvSpPr>
        <p:spPr>
          <a:xfrm>
            <a:off x="323964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7"/>
          <p:cNvSpPr>
            <a:spLocks noGrp="1"/>
          </p:cNvSpPr>
          <p:nvPr>
            <p:ph/>
          </p:nvPr>
        </p:nvSpPr>
        <p:spPr>
          <a:xfrm>
            <a:off x="602208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80C626-F5FC-48B7-99BC-26241699E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ACBBED-82AF-4CBC-B793-B83C9D2CA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A3A98-A2E4-49DE-8E63-34E75CE8C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890B6E-374F-43DC-AA81-FAA85BC3C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66362C-BB55-4B13-84BA-717741307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6CC407-F9E3-4870-8F32-4A5F435CE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C7DD50-0F10-42F1-9EA5-A0AB1404C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38088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C1E058-2BBE-46C1-A8E4-B2D4E90AE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F60C56-7BF0-43A6-B258-8F6A4F0AF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424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D6F1A3-FF0A-42A5-BF84-404D7CB92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4A16B8-8B2C-43EB-A686-2878878CD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57200" y="38754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59DB79-BD2F-4D92-B1F4-821280E72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424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673056-0456-44CA-A3C7-19E301030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003A4-E03C-4909-960D-9E97CE06B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5720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3964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2208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44962D-1B23-4C61-A0E7-986126589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A804B4-9989-409E-967A-266F6E1C0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C96888-AB7F-461B-9CD9-C7D031D2B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0E0D23-84DF-411E-A865-C480E5C38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F46F47-2110-475D-A582-5D4C58D05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01AE25-3345-4224-8BE9-247C29705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8088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CAAA49-4A61-478F-B585-B5CCAF10A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655214-0BEB-44C3-BAA1-89EAFF7F6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89FF3F-6BCA-48BE-9060-CC713CE7F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4D6132-5101-4415-AD29-7DD2606AD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AFD3D-E5B1-40F0-8D0B-1A4B42097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38754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D0E2DE-87D4-4484-9641-2548D3B35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DB4C91-DE96-4CB1-B8A5-C748BE762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AB5B58-4A84-49BE-832C-FD9B5B24D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65BF60-83C7-4939-9F06-F0B3E2D3F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2697A0-E009-4890-AE8A-D73EFE574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21C7EA-A1AA-4F23-BF65-1C46D492A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D56F33-D929-439E-AAF9-9A1C4DA09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885C5E-D73E-456D-B68E-0CF078917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ubTitle"/>
          </p:nvPr>
        </p:nvSpPr>
        <p:spPr>
          <a:xfrm>
            <a:off x="38088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6F74AA-3445-476C-A773-0DF82AB1B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CECD75-7790-43C3-81E8-4B117AADC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CEA2F-A89C-4A33-B6DC-97DDCB338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67424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F113A8-D32E-41ED-A54D-FE1F320F5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594FA5-3B90-4E9B-BF07-4C2774599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57200" y="38754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B5A45E-75EE-42C9-AE6E-AFAB1DBEA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67424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588BA2-7F49-4CC2-90AA-1D4D3C349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45720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6"/>
          <p:cNvSpPr>
            <a:spLocks noGrp="1"/>
          </p:cNvSpPr>
          <p:nvPr>
            <p:ph/>
          </p:nvPr>
        </p:nvSpPr>
        <p:spPr>
          <a:xfrm>
            <a:off x="323964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7"/>
          <p:cNvSpPr>
            <a:spLocks noGrp="1"/>
          </p:cNvSpPr>
          <p:nvPr>
            <p:ph/>
          </p:nvPr>
        </p:nvSpPr>
        <p:spPr>
          <a:xfrm>
            <a:off x="602208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5F276E-499B-4420-B0E4-A3A5B1853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DF8CD-CCF2-4CB9-8B63-35E16AC2C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C110E-C7D0-43C5-B3EE-D067AA71E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5E96B-9F80-4352-9D1A-E602C4C3D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38088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40D0F-C750-45D9-8A30-719E04C1C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56683-08EF-42ED-B8E7-3D1C752A8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6DCC7-7C29-42ED-BCE8-9D8D52A11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35D95-9C66-4540-BCA4-F0D28B4C4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AC270-7F8C-4B6E-8E47-5E620386D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8754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42ED1-659E-45FA-9BB3-38A4F9D8F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14BE0-9F7E-4A0D-B9DC-BE9A86B67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2308F-837E-4205-BC05-C119DD2D1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5057B0-C252-4E6C-88FE-F922E2AFB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FE0C30-DBEA-4283-A852-225C86B21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5C07F9-E927-441F-ADAA-B9403090E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3F4CF5-F751-4CB5-A81B-1D4C20349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F79F07-F95F-44D5-BEA7-C9813BE38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A350D-C020-41BA-B18B-A23C4304E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8088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2CA4FF-C1C2-4A59-9707-CBFEDB656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F4990B-6F7A-4C1D-AB47-3CD87F21F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BD1A9B-BD56-46D3-A35F-0162E2D0F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2873AD-6220-40D2-8A2A-300E4C730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8754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6533A9-96D0-4D20-8542-CCAECBC19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4E8CDE-C21A-4F76-BD15-74A541F69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6958F2-252C-41E2-8B99-8ACE1B10A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31B2BD-BF8F-4C8A-8BB2-43157754C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05CD65-4810-45A3-83DA-B251CC420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164FFC-1834-45AE-98B6-97E647A07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79762-4AFB-43D8-9317-CE37537EA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3A575A-8716-4440-919C-E969E81C2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98C0F9-6C20-437C-AD24-2B427E7DA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38088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91A53A-BDFC-424E-AB56-6552720F0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72E76E-055B-4067-8752-8B3E63180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7424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EA6D00-511F-47C2-8E19-0E80E76E5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EC5C94-EE0F-42B0-8BCD-5040A0426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57200" y="38754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C6E782-5603-4710-B109-B3AA86B58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7424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207618-B06D-4C28-A2CE-3D48025CC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5720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23964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02208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B0D249-7A2F-4883-A8FB-A09E32D87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E383A0-DB79-413B-9372-3B3196097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522B1-49E8-46EB-8B61-2D20C70AD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6881A9-D568-47AD-AFB0-A36640195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3FA78F-8207-452B-A858-DD5D1CF74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350DAD-AB5A-4B18-B64F-1D2F6C80A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8C8DBB-3073-466A-AF68-EF3F63D30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38088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A322C9-EB94-4ECE-886D-C24329496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CB4847-D850-46EE-B032-577C2D952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DAC86E-0DF3-4738-B838-D6D18F5FD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D2B1BF-4347-49D4-AA0E-0A26BAC74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54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E7A8A0-2247-4E1B-98FF-BAF7580CE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142052-7C55-45AA-9D8C-413849F70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8088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D50D1-AE84-4089-A58E-DA2D7C6C3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C34814-448A-48CE-97C1-62A36D11F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F069AE-4B99-43D0-82AC-51C434D77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890354-BB86-4DC0-A345-519BC6AE5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6B73C9-195D-450C-98E9-6E9A638C7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526624-00B9-481D-A3A7-17BCA47A7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B0C4BB-8457-4357-B6E5-EFECA6DA1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38088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B7EB8F-9E7E-4B72-9F07-4295864F8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134EDB-284B-46B5-B627-5D745E472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7424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0D1209-1DA7-434C-A139-82D7BB1C7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85BB5A-1EF3-47F8-824D-1F4680C08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62D6F-B49A-4984-BBD4-D64C5ACED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57200" y="38754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A1283B-5DED-4E80-B7CF-F76545C97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7424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36FA3C-96AA-48A5-832A-8BC0445D9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5720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23964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02208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4D8388-AD6E-46E0-8B05-AB3A46FC7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4A2115-5629-4FA7-AA51-AD6A88960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79E3BE-B527-4B66-BED8-A4E2CFFEF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D677A0-20C2-4CA0-A736-297803505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ACBE61-46E4-46F8-982F-2179CA9CC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BEDCBC-A401-45AE-9F93-77F3AF9E9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38088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396E66-011E-441B-8A77-4BFA0B160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2B4C26-40B6-498A-BC20-F164CAD9E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53D05-F9BD-40B5-A331-C9CAFCFAE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67424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5F1BBB-7B0F-4B4D-9858-8B2D05A44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DCAE6C-9AD9-4124-A278-22D4DC772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57200" y="38754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CC5135-EF8F-47E0-9B63-9A96C5071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67424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6A462A-B3F9-4164-A1A5-72E0292E0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45720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23964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602208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88E85C-5F45-4B37-9E27-327B10135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FD5A63-DB79-4012-B4DD-1FEE04C60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D805C2-4DC0-409F-B8FF-C5B7ED793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1C91FB-8B1B-4935-A2E0-C87A5D696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FF1655-53B2-4692-86EA-E402C14C2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7A2E87-9E65-43D4-A43A-67DAE3978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46189-78BE-4D88-80E2-475AB341E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ubTitle"/>
          </p:nvPr>
        </p:nvSpPr>
        <p:spPr>
          <a:xfrm>
            <a:off x="38088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1CCA4A-4019-41C0-AD55-24E551130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131B79-C38C-4BDB-9549-E8BDF320A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67424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81230B-523C-4C4A-81EA-DA9E79B02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6AF845-78A8-4F7A-B09F-17ADE441D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57200" y="38754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F5D757-A0A5-4506-BCED-FEFCBB69F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67424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A77040-82E9-495C-849D-F97274E62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5720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/>
          </p:nvPr>
        </p:nvSpPr>
        <p:spPr>
          <a:xfrm>
            <a:off x="323964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7"/>
          <p:cNvSpPr>
            <a:spLocks noGrp="1"/>
          </p:cNvSpPr>
          <p:nvPr>
            <p:ph/>
          </p:nvPr>
        </p:nvSpPr>
        <p:spPr>
          <a:xfrm>
            <a:off x="602208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E8A9C1-294A-4302-96AD-B5EBC9FAD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35B789-F4F6-42C6-BCAE-9E4356E3D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02F0D0-EC7D-41C8-8ED4-142E55653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BB7B17-C985-4C5D-B2D5-2DEC63F0C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1"/>
          <p:cNvGrpSpPr/>
          <p:nvPr/>
        </p:nvGrpSpPr>
        <p:grpSpPr>
          <a:xfrm>
            <a:off x="0" y="6248520"/>
            <a:ext cx="9144000" cy="609480"/>
            <a:chOff x="0" y="6248520"/>
            <a:chExt cx="9144000" cy="609480"/>
          </a:xfrm>
        </p:grpSpPr>
        <p:sp>
          <p:nvSpPr>
            <p:cNvPr id="1" name="Rectangle 3"/>
            <p:cNvSpPr/>
            <p:nvPr/>
          </p:nvSpPr>
          <p:spPr>
            <a:xfrm>
              <a:off x="0" y="6248520"/>
              <a:ext cx="9144000" cy="609480"/>
            </a:xfrm>
            <a:prstGeom prst="rect">
              <a:avLst/>
            </a:prstGeom>
            <a:solidFill>
              <a:srgbClr val="1c55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Text Box 4"/>
            <p:cNvSpPr/>
            <p:nvPr/>
          </p:nvSpPr>
          <p:spPr>
            <a:xfrm>
              <a:off x="504720" y="6431040"/>
              <a:ext cx="3533760" cy="276480"/>
            </a:xfrm>
            <a:prstGeom prst="rect">
              <a:avLst/>
            </a:prstGeom>
            <a:solidFill>
              <a:srgbClr val="1c55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 Black"/>
                </a:rPr>
                <a:t>Metropolitan Transportation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 Black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 Black"/>
                </a:rPr>
                <a:t>Authori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2"/>
            <a:stretch/>
          </p:blipFill>
          <p:spPr>
            <a:xfrm>
              <a:off x="160200" y="6326280"/>
              <a:ext cx="401760" cy="444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381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576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30231-CA32-4382-B387-DB5C4E8633B9}" type="slidenum">
              <a:rPr b="1" lang="en-US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5" name="Group 11"/>
          <p:cNvGrpSpPr/>
          <p:nvPr/>
        </p:nvGrpSpPr>
        <p:grpSpPr>
          <a:xfrm>
            <a:off x="0" y="6248520"/>
            <a:ext cx="9144000" cy="609480"/>
            <a:chOff x="0" y="6248520"/>
            <a:chExt cx="9144000" cy="609480"/>
          </a:xfrm>
        </p:grpSpPr>
        <p:sp>
          <p:nvSpPr>
            <p:cNvPr id="406" name="Rectangle 3"/>
            <p:cNvSpPr/>
            <p:nvPr/>
          </p:nvSpPr>
          <p:spPr>
            <a:xfrm>
              <a:off x="0" y="6248520"/>
              <a:ext cx="9144000" cy="609480"/>
            </a:xfrm>
            <a:prstGeom prst="rect">
              <a:avLst/>
            </a:prstGeom>
            <a:solidFill>
              <a:srgbClr val="1c55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Text Box 4"/>
            <p:cNvSpPr/>
            <p:nvPr/>
          </p:nvSpPr>
          <p:spPr>
            <a:xfrm>
              <a:off x="504720" y="6431040"/>
              <a:ext cx="3533760" cy="276480"/>
            </a:xfrm>
            <a:prstGeom prst="rect">
              <a:avLst/>
            </a:prstGeom>
            <a:solidFill>
              <a:srgbClr val="1c55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 Black"/>
                </a:rPr>
                <a:t>Metropolitan Transportation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 Black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 Black"/>
                </a:rPr>
                <a:t>Authori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08" name="Picture 5" descr=""/>
            <p:cNvPicPr/>
            <p:nvPr/>
          </p:nvPicPr>
          <p:blipFill>
            <a:blip r:embed="rId2"/>
            <a:stretch/>
          </p:blipFill>
          <p:spPr>
            <a:xfrm>
              <a:off x="160200" y="6326280"/>
              <a:ext cx="401760" cy="444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 type="ftr" idx="29"/>
          </p:nvPr>
        </p:nvSpPr>
        <p:spPr>
          <a:xfrm>
            <a:off x="3124080" y="6381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 type="sldNum" idx="30"/>
          </p:nvPr>
        </p:nvSpPr>
        <p:spPr>
          <a:xfrm>
            <a:off x="68576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B0635-45BC-459D-9324-EA4F466ACDF8}" type="slidenum">
              <a:rPr b="1" lang="en-US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0" name="Group 11"/>
          <p:cNvGrpSpPr/>
          <p:nvPr/>
        </p:nvGrpSpPr>
        <p:grpSpPr>
          <a:xfrm>
            <a:off x="0" y="6248520"/>
            <a:ext cx="9144000" cy="609480"/>
            <a:chOff x="0" y="6248520"/>
            <a:chExt cx="9144000" cy="609480"/>
          </a:xfrm>
        </p:grpSpPr>
        <p:sp>
          <p:nvSpPr>
            <p:cNvPr id="451" name="Rectangle 3"/>
            <p:cNvSpPr/>
            <p:nvPr/>
          </p:nvSpPr>
          <p:spPr>
            <a:xfrm>
              <a:off x="0" y="6248520"/>
              <a:ext cx="9144000" cy="609480"/>
            </a:xfrm>
            <a:prstGeom prst="rect">
              <a:avLst/>
            </a:prstGeom>
            <a:solidFill>
              <a:srgbClr val="1c55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Text Box 4"/>
            <p:cNvSpPr/>
            <p:nvPr/>
          </p:nvSpPr>
          <p:spPr>
            <a:xfrm>
              <a:off x="504720" y="6431040"/>
              <a:ext cx="3533760" cy="276480"/>
            </a:xfrm>
            <a:prstGeom prst="rect">
              <a:avLst/>
            </a:prstGeom>
            <a:solidFill>
              <a:srgbClr val="1c55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 Black"/>
                </a:rPr>
                <a:t>Metropolitan Transportation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 Black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 Black"/>
                </a:rPr>
                <a:t>Authori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53" name="Picture 5" descr=""/>
            <p:cNvPicPr/>
            <p:nvPr/>
          </p:nvPicPr>
          <p:blipFill>
            <a:blip r:embed="rId2"/>
            <a:stretch/>
          </p:blipFill>
          <p:spPr>
            <a:xfrm>
              <a:off x="160200" y="6326280"/>
              <a:ext cx="401760" cy="444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2"/>
          </p:nvPr>
        </p:nvSpPr>
        <p:spPr>
          <a:xfrm>
            <a:off x="3124080" y="6381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3"/>
          </p:nvPr>
        </p:nvSpPr>
        <p:spPr>
          <a:xfrm>
            <a:off x="68576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2E659-820D-430B-A9D0-2A88A595AB9E}" type="slidenum">
              <a:rPr b="1" lang="en-US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5" name="Group 11"/>
          <p:cNvGrpSpPr/>
          <p:nvPr/>
        </p:nvGrpSpPr>
        <p:grpSpPr>
          <a:xfrm>
            <a:off x="0" y="6248520"/>
            <a:ext cx="9144000" cy="609480"/>
            <a:chOff x="0" y="6248520"/>
            <a:chExt cx="9144000" cy="609480"/>
          </a:xfrm>
        </p:grpSpPr>
        <p:sp>
          <p:nvSpPr>
            <p:cNvPr id="496" name="Rectangle 3"/>
            <p:cNvSpPr/>
            <p:nvPr/>
          </p:nvSpPr>
          <p:spPr>
            <a:xfrm>
              <a:off x="0" y="6248520"/>
              <a:ext cx="9144000" cy="609480"/>
            </a:xfrm>
            <a:prstGeom prst="rect">
              <a:avLst/>
            </a:prstGeom>
            <a:solidFill>
              <a:srgbClr val="1c55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Text Box 4"/>
            <p:cNvSpPr/>
            <p:nvPr/>
          </p:nvSpPr>
          <p:spPr>
            <a:xfrm>
              <a:off x="504720" y="6431040"/>
              <a:ext cx="3533760" cy="276480"/>
            </a:xfrm>
            <a:prstGeom prst="rect">
              <a:avLst/>
            </a:prstGeom>
            <a:solidFill>
              <a:srgbClr val="1c55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 Black"/>
                </a:rPr>
                <a:t>Metropolitan Transportation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 Black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 Black"/>
                </a:rPr>
                <a:t>Authori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98" name="Picture 5" descr=""/>
            <p:cNvPicPr/>
            <p:nvPr/>
          </p:nvPicPr>
          <p:blipFill>
            <a:blip r:embed="rId2"/>
            <a:stretch/>
          </p:blipFill>
          <p:spPr>
            <a:xfrm>
              <a:off x="160200" y="6326280"/>
              <a:ext cx="401760" cy="444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 type="ftr" idx="35"/>
          </p:nvPr>
        </p:nvSpPr>
        <p:spPr>
          <a:xfrm>
            <a:off x="3124080" y="6381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 type="sldNum" idx="36"/>
          </p:nvPr>
        </p:nvSpPr>
        <p:spPr>
          <a:xfrm>
            <a:off x="68576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75EAC-9A36-48FC-9B09-FF2EAFEBC395}" type="slidenum">
              <a:rPr b="1" lang="en-US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11"/>
          <p:cNvGrpSpPr/>
          <p:nvPr/>
        </p:nvGrpSpPr>
        <p:grpSpPr>
          <a:xfrm>
            <a:off x="0" y="6248520"/>
            <a:ext cx="9144000" cy="609480"/>
            <a:chOff x="0" y="6248520"/>
            <a:chExt cx="9144000" cy="609480"/>
          </a:xfrm>
        </p:grpSpPr>
        <p:sp>
          <p:nvSpPr>
            <p:cNvPr id="46" name="Rectangle 3"/>
            <p:cNvSpPr/>
            <p:nvPr/>
          </p:nvSpPr>
          <p:spPr>
            <a:xfrm>
              <a:off x="0" y="6248520"/>
              <a:ext cx="9144000" cy="609480"/>
            </a:xfrm>
            <a:prstGeom prst="rect">
              <a:avLst/>
            </a:prstGeom>
            <a:solidFill>
              <a:srgbClr val="1c55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Text Box 4"/>
            <p:cNvSpPr/>
            <p:nvPr/>
          </p:nvSpPr>
          <p:spPr>
            <a:xfrm>
              <a:off x="504720" y="6431040"/>
              <a:ext cx="3533760" cy="276480"/>
            </a:xfrm>
            <a:prstGeom prst="rect">
              <a:avLst/>
            </a:prstGeom>
            <a:solidFill>
              <a:srgbClr val="1c55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 Black"/>
                </a:rPr>
                <a:t>Metropolitan Transportation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 Black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 Black"/>
                </a:rPr>
                <a:t>Authori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160200" y="6326280"/>
              <a:ext cx="401760" cy="444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381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8576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62968-2AFA-4AAD-90C9-006530651168}" type="slidenum">
              <a:rPr b="1" lang="en-US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11"/>
          <p:cNvGrpSpPr/>
          <p:nvPr/>
        </p:nvGrpSpPr>
        <p:grpSpPr>
          <a:xfrm>
            <a:off x="0" y="6248520"/>
            <a:ext cx="9144000" cy="609480"/>
            <a:chOff x="0" y="6248520"/>
            <a:chExt cx="9144000" cy="609480"/>
          </a:xfrm>
        </p:grpSpPr>
        <p:sp>
          <p:nvSpPr>
            <p:cNvPr id="91" name="Rectangle 3"/>
            <p:cNvSpPr/>
            <p:nvPr/>
          </p:nvSpPr>
          <p:spPr>
            <a:xfrm>
              <a:off x="0" y="6248520"/>
              <a:ext cx="9144000" cy="609480"/>
            </a:xfrm>
            <a:prstGeom prst="rect">
              <a:avLst/>
            </a:prstGeom>
            <a:solidFill>
              <a:srgbClr val="1c55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Text Box 4"/>
            <p:cNvSpPr/>
            <p:nvPr/>
          </p:nvSpPr>
          <p:spPr>
            <a:xfrm>
              <a:off x="504720" y="6431040"/>
              <a:ext cx="3533760" cy="276480"/>
            </a:xfrm>
            <a:prstGeom prst="rect">
              <a:avLst/>
            </a:prstGeom>
            <a:solidFill>
              <a:srgbClr val="1c55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 Black"/>
                </a:rPr>
                <a:t>Metropolitan Transportation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 Black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 Black"/>
                </a:rPr>
                <a:t>Authori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3" name="Picture 5" descr=""/>
            <p:cNvPicPr/>
            <p:nvPr/>
          </p:nvPicPr>
          <p:blipFill>
            <a:blip r:embed="rId2"/>
            <a:stretch/>
          </p:blipFill>
          <p:spPr>
            <a:xfrm>
              <a:off x="160200" y="6326280"/>
              <a:ext cx="401760" cy="444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3124080" y="6381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68576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226FE-D892-4AC9-BC8F-895000E83972}" type="slidenum">
              <a:rPr b="1" lang="en-US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Group 11"/>
          <p:cNvGrpSpPr/>
          <p:nvPr/>
        </p:nvGrpSpPr>
        <p:grpSpPr>
          <a:xfrm>
            <a:off x="0" y="6248520"/>
            <a:ext cx="9144000" cy="609480"/>
            <a:chOff x="0" y="6248520"/>
            <a:chExt cx="9144000" cy="609480"/>
          </a:xfrm>
        </p:grpSpPr>
        <p:sp>
          <p:nvSpPr>
            <p:cNvPr id="136" name="Rectangle 3"/>
            <p:cNvSpPr/>
            <p:nvPr/>
          </p:nvSpPr>
          <p:spPr>
            <a:xfrm>
              <a:off x="0" y="6248520"/>
              <a:ext cx="9144000" cy="609480"/>
            </a:xfrm>
            <a:prstGeom prst="rect">
              <a:avLst/>
            </a:prstGeom>
            <a:solidFill>
              <a:srgbClr val="1c55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Text Box 4"/>
            <p:cNvSpPr/>
            <p:nvPr/>
          </p:nvSpPr>
          <p:spPr>
            <a:xfrm>
              <a:off x="504720" y="6431040"/>
              <a:ext cx="3533760" cy="276480"/>
            </a:xfrm>
            <a:prstGeom prst="rect">
              <a:avLst/>
            </a:prstGeom>
            <a:solidFill>
              <a:srgbClr val="1c55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 Black"/>
                </a:rPr>
                <a:t>Metropolitan Transportation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 Black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 Black"/>
                </a:rPr>
                <a:t>Authori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8" name="Picture 5" descr=""/>
            <p:cNvPicPr/>
            <p:nvPr/>
          </p:nvPicPr>
          <p:blipFill>
            <a:blip r:embed="rId2"/>
            <a:stretch/>
          </p:blipFill>
          <p:spPr>
            <a:xfrm>
              <a:off x="160200" y="6326280"/>
              <a:ext cx="401760" cy="444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3124080" y="6381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>
            <a:off x="68576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94E0F-814C-475E-B585-3001CC117E2A}" type="slidenum">
              <a:rPr b="1" lang="en-US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Group 11"/>
          <p:cNvGrpSpPr/>
          <p:nvPr/>
        </p:nvGrpSpPr>
        <p:grpSpPr>
          <a:xfrm>
            <a:off x="0" y="6248520"/>
            <a:ext cx="9144000" cy="609480"/>
            <a:chOff x="0" y="6248520"/>
            <a:chExt cx="9144000" cy="609480"/>
          </a:xfrm>
        </p:grpSpPr>
        <p:sp>
          <p:nvSpPr>
            <p:cNvPr id="181" name="Rectangle 3"/>
            <p:cNvSpPr/>
            <p:nvPr/>
          </p:nvSpPr>
          <p:spPr>
            <a:xfrm>
              <a:off x="0" y="6248520"/>
              <a:ext cx="9144000" cy="609480"/>
            </a:xfrm>
            <a:prstGeom prst="rect">
              <a:avLst/>
            </a:prstGeom>
            <a:solidFill>
              <a:srgbClr val="1c55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 Box 4"/>
            <p:cNvSpPr/>
            <p:nvPr/>
          </p:nvSpPr>
          <p:spPr>
            <a:xfrm>
              <a:off x="504720" y="6431040"/>
              <a:ext cx="3533760" cy="276480"/>
            </a:xfrm>
            <a:prstGeom prst="rect">
              <a:avLst/>
            </a:prstGeom>
            <a:solidFill>
              <a:srgbClr val="1c55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 Black"/>
                </a:rPr>
                <a:t>Metropolitan Transportation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 Black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 Black"/>
                </a:rPr>
                <a:t>Authori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3" name="Picture 5" descr=""/>
            <p:cNvPicPr/>
            <p:nvPr/>
          </p:nvPicPr>
          <p:blipFill>
            <a:blip r:embed="rId2"/>
            <a:stretch/>
          </p:blipFill>
          <p:spPr>
            <a:xfrm>
              <a:off x="160200" y="6326280"/>
              <a:ext cx="401760" cy="444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ftr" idx="14"/>
          </p:nvPr>
        </p:nvSpPr>
        <p:spPr>
          <a:xfrm>
            <a:off x="3124080" y="6381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sldNum" idx="15"/>
          </p:nvPr>
        </p:nvSpPr>
        <p:spPr>
          <a:xfrm>
            <a:off x="68576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A0F56-3FD6-47B5-B3E4-CA2BAA64839A}" type="slidenum">
              <a:rPr b="1" lang="en-US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5" name="Group 11"/>
          <p:cNvGrpSpPr/>
          <p:nvPr/>
        </p:nvGrpSpPr>
        <p:grpSpPr>
          <a:xfrm>
            <a:off x="0" y="6248520"/>
            <a:ext cx="9144000" cy="609480"/>
            <a:chOff x="0" y="6248520"/>
            <a:chExt cx="9144000" cy="609480"/>
          </a:xfrm>
        </p:grpSpPr>
        <p:sp>
          <p:nvSpPr>
            <p:cNvPr id="226" name="Rectangle 3"/>
            <p:cNvSpPr/>
            <p:nvPr/>
          </p:nvSpPr>
          <p:spPr>
            <a:xfrm>
              <a:off x="0" y="6248520"/>
              <a:ext cx="9144000" cy="609480"/>
            </a:xfrm>
            <a:prstGeom prst="rect">
              <a:avLst/>
            </a:prstGeom>
            <a:solidFill>
              <a:srgbClr val="1c55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Text Box 4"/>
            <p:cNvSpPr/>
            <p:nvPr/>
          </p:nvSpPr>
          <p:spPr>
            <a:xfrm>
              <a:off x="504720" y="6431040"/>
              <a:ext cx="3533760" cy="276480"/>
            </a:xfrm>
            <a:prstGeom prst="rect">
              <a:avLst/>
            </a:prstGeom>
            <a:solidFill>
              <a:srgbClr val="1c55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 Black"/>
                </a:rPr>
                <a:t>Metropolitan Transportation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 Black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 Black"/>
                </a:rPr>
                <a:t>Authori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8" name="Picture 5" descr=""/>
            <p:cNvPicPr/>
            <p:nvPr/>
          </p:nvPicPr>
          <p:blipFill>
            <a:blip r:embed="rId2"/>
            <a:stretch/>
          </p:blipFill>
          <p:spPr>
            <a:xfrm>
              <a:off x="160200" y="6326280"/>
              <a:ext cx="401760" cy="444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ftr" idx="17"/>
          </p:nvPr>
        </p:nvSpPr>
        <p:spPr>
          <a:xfrm>
            <a:off x="3124080" y="6381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sldNum" idx="18"/>
          </p:nvPr>
        </p:nvSpPr>
        <p:spPr>
          <a:xfrm>
            <a:off x="68576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3632A-3D1E-4A06-97EA-FA6814EC6828}" type="slidenum">
              <a:rPr b="1" lang="en-US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0" name="Group 11"/>
          <p:cNvGrpSpPr/>
          <p:nvPr/>
        </p:nvGrpSpPr>
        <p:grpSpPr>
          <a:xfrm>
            <a:off x="0" y="6248520"/>
            <a:ext cx="9144000" cy="609480"/>
            <a:chOff x="0" y="6248520"/>
            <a:chExt cx="9144000" cy="609480"/>
          </a:xfrm>
        </p:grpSpPr>
        <p:sp>
          <p:nvSpPr>
            <p:cNvPr id="271" name="Rectangle 3"/>
            <p:cNvSpPr/>
            <p:nvPr/>
          </p:nvSpPr>
          <p:spPr>
            <a:xfrm>
              <a:off x="0" y="6248520"/>
              <a:ext cx="9144000" cy="609480"/>
            </a:xfrm>
            <a:prstGeom prst="rect">
              <a:avLst/>
            </a:prstGeom>
            <a:solidFill>
              <a:srgbClr val="1c55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Text Box 4"/>
            <p:cNvSpPr/>
            <p:nvPr/>
          </p:nvSpPr>
          <p:spPr>
            <a:xfrm>
              <a:off x="504720" y="6431040"/>
              <a:ext cx="3533760" cy="276480"/>
            </a:xfrm>
            <a:prstGeom prst="rect">
              <a:avLst/>
            </a:prstGeom>
            <a:solidFill>
              <a:srgbClr val="1c55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 Black"/>
                </a:rPr>
                <a:t>Metropolitan Transportation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 Black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 Black"/>
                </a:rPr>
                <a:t>Authori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73" name="Picture 5" descr=""/>
            <p:cNvPicPr/>
            <p:nvPr/>
          </p:nvPicPr>
          <p:blipFill>
            <a:blip r:embed="rId2"/>
            <a:stretch/>
          </p:blipFill>
          <p:spPr>
            <a:xfrm>
              <a:off x="160200" y="6326280"/>
              <a:ext cx="401760" cy="444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 type="ftr" idx="20"/>
          </p:nvPr>
        </p:nvSpPr>
        <p:spPr>
          <a:xfrm>
            <a:off x="3124080" y="6381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 type="sldNum" idx="21"/>
          </p:nvPr>
        </p:nvSpPr>
        <p:spPr>
          <a:xfrm>
            <a:off x="68576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E9E24-DD68-4A61-9651-761C05B9AAA8}" type="slidenum">
              <a:rPr b="1" lang="en-US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5" name="Group 11"/>
          <p:cNvGrpSpPr/>
          <p:nvPr/>
        </p:nvGrpSpPr>
        <p:grpSpPr>
          <a:xfrm>
            <a:off x="0" y="6248520"/>
            <a:ext cx="9144000" cy="609480"/>
            <a:chOff x="0" y="6248520"/>
            <a:chExt cx="9144000" cy="609480"/>
          </a:xfrm>
        </p:grpSpPr>
        <p:sp>
          <p:nvSpPr>
            <p:cNvPr id="316" name="Rectangle 3"/>
            <p:cNvSpPr/>
            <p:nvPr/>
          </p:nvSpPr>
          <p:spPr>
            <a:xfrm>
              <a:off x="0" y="6248520"/>
              <a:ext cx="9144000" cy="609480"/>
            </a:xfrm>
            <a:prstGeom prst="rect">
              <a:avLst/>
            </a:prstGeom>
            <a:solidFill>
              <a:srgbClr val="1c55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Text Box 4"/>
            <p:cNvSpPr/>
            <p:nvPr/>
          </p:nvSpPr>
          <p:spPr>
            <a:xfrm>
              <a:off x="504720" y="6431040"/>
              <a:ext cx="3533760" cy="276480"/>
            </a:xfrm>
            <a:prstGeom prst="rect">
              <a:avLst/>
            </a:prstGeom>
            <a:solidFill>
              <a:srgbClr val="1c55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 Black"/>
                </a:rPr>
                <a:t>Metropolitan Transportation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 Black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 Black"/>
                </a:rPr>
                <a:t>Authori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18" name="Picture 5" descr=""/>
            <p:cNvPicPr/>
            <p:nvPr/>
          </p:nvPicPr>
          <p:blipFill>
            <a:blip r:embed="rId2"/>
            <a:stretch/>
          </p:blipFill>
          <p:spPr>
            <a:xfrm>
              <a:off x="160200" y="6326280"/>
              <a:ext cx="401760" cy="444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ftr" idx="23"/>
          </p:nvPr>
        </p:nvSpPr>
        <p:spPr>
          <a:xfrm>
            <a:off x="3124080" y="6381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sldNum" idx="24"/>
          </p:nvPr>
        </p:nvSpPr>
        <p:spPr>
          <a:xfrm>
            <a:off x="68576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6A61B-5C7A-437C-9FF8-70273CCD1BD1}" type="slidenum">
              <a:rPr b="1" lang="en-US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0" name="Group 11"/>
          <p:cNvGrpSpPr/>
          <p:nvPr/>
        </p:nvGrpSpPr>
        <p:grpSpPr>
          <a:xfrm>
            <a:off x="0" y="6248520"/>
            <a:ext cx="9144000" cy="609480"/>
            <a:chOff x="0" y="6248520"/>
            <a:chExt cx="9144000" cy="609480"/>
          </a:xfrm>
        </p:grpSpPr>
        <p:sp>
          <p:nvSpPr>
            <p:cNvPr id="361" name="Rectangle 3"/>
            <p:cNvSpPr/>
            <p:nvPr/>
          </p:nvSpPr>
          <p:spPr>
            <a:xfrm>
              <a:off x="0" y="6248520"/>
              <a:ext cx="9144000" cy="609480"/>
            </a:xfrm>
            <a:prstGeom prst="rect">
              <a:avLst/>
            </a:prstGeom>
            <a:solidFill>
              <a:srgbClr val="1c55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Text Box 4"/>
            <p:cNvSpPr/>
            <p:nvPr/>
          </p:nvSpPr>
          <p:spPr>
            <a:xfrm>
              <a:off x="504720" y="6431040"/>
              <a:ext cx="3533760" cy="276480"/>
            </a:xfrm>
            <a:prstGeom prst="rect">
              <a:avLst/>
            </a:prstGeom>
            <a:solidFill>
              <a:srgbClr val="1c55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 Black"/>
                </a:rPr>
                <a:t>Metropolitan Transportation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 Black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 Black"/>
                </a:rPr>
                <a:t>Authori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63" name="Picture 5" descr=""/>
            <p:cNvPicPr/>
            <p:nvPr/>
          </p:nvPicPr>
          <p:blipFill>
            <a:blip r:embed="rId2"/>
            <a:stretch/>
          </p:blipFill>
          <p:spPr>
            <a:xfrm>
              <a:off x="160200" y="6326280"/>
              <a:ext cx="401760" cy="444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 type="ftr" idx="26"/>
          </p:nvPr>
        </p:nvSpPr>
        <p:spPr>
          <a:xfrm>
            <a:off x="3124080" y="6381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 type="sldNum" idx="27"/>
          </p:nvPr>
        </p:nvSpPr>
        <p:spPr>
          <a:xfrm>
            <a:off x="68576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BD2D0-DB51-4304-BA81-AD0697364101}" type="slidenum">
              <a:rPr b="1" lang="en-US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380880" y="2209680"/>
            <a:ext cx="8382240" cy="147024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ew Fare Payment System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pda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1447920" y="4419360"/>
            <a:ext cx="64008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atio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ital Program Oversight Committ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 23, 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9" name="Picture 4" descr="mtasymbolpms286"/>
          <p:cNvPicPr/>
          <p:nvPr/>
        </p:nvPicPr>
        <p:blipFill>
          <a:blip r:embed="rId1"/>
          <a:stretch/>
        </p:blipFill>
        <p:spPr>
          <a:xfrm>
            <a:off x="3835440" y="914400"/>
            <a:ext cx="1282680" cy="14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re payment challen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Slide Number Placeholder 3"/>
          <p:cNvSpPr/>
          <p:nvPr/>
        </p:nvSpPr>
        <p:spPr>
          <a:xfrm>
            <a:off x="685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6FF7A-DB43-4C39-9A68-F9782ED2DA54}" type="slidenum"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 txBox="1"/>
          <p:nvPr/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allation of bus rea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aging commercial relationship with payments indus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way communications net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TA-issued card &amp; reload net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ition from MetroC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stom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ploye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ffective commun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ving forward: Next 6 month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 txBox="1"/>
          <p:nvPr/>
        </p:nvSpPr>
        <p:spPr>
          <a:xfrm>
            <a:off x="457200" y="13712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 detailed requirements for MTA-issued card and reload net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 Project Plan: requirements, cost estimate, schedule, procurement strate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 payments industry negotiation strate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alize subway communications networks 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ect System Integr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all hardware on Staten Island bu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Slide Number Placeholder 3"/>
          <p:cNvSpPr/>
          <p:nvPr/>
        </p:nvSpPr>
        <p:spPr>
          <a:xfrm>
            <a:off x="685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667F8-017B-4D47-AB8E-4BC5587CB2C6}" type="slidenum"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 txBox="1"/>
          <p:nvPr/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e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ving 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Slide Number Placeholder 3"/>
          <p:cNvSpPr/>
          <p:nvPr/>
        </p:nvSpPr>
        <p:spPr>
          <a:xfrm>
            <a:off x="685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645D0-D3FF-474B-AB8F-AFF0ED421D2F}" type="slidenum"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TA go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457200" y="1447560"/>
            <a:ext cx="83059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wer cost of revenue coll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15¢ cost per revenue dollar collec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 fare payment across modes &amp; agen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stantially reduce cash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ed up performance at turnstiles &amp; farebox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 up bus boarding and reduce dwell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ture-pro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Slide Number Placeholder 3"/>
          <p:cNvSpPr/>
          <p:nvPr/>
        </p:nvSpPr>
        <p:spPr>
          <a:xfrm>
            <a:off x="685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DEF5B-B277-4B6D-861C-952459616DE9}" type="slidenum"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re payment concep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 txBox="1"/>
          <p:nvPr/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ount-based, not card-ba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like E-Z Pass, less like MetroC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ount may reside with bank, MTA, mobile phone network or other 3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arty provi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For entr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customer will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ta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not swipe, at readers on turnstiles and farebox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p contactless credit/debit card, prepaid card, phone or MTA C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Slide Number Placeholder 3"/>
          <p:cNvSpPr/>
          <p:nvPr/>
        </p:nvSpPr>
        <p:spPr>
          <a:xfrm>
            <a:off x="685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8CD4A-0B98-4691-BC1A-CD13017A26F8}" type="slidenum"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re payment concept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90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ncourage customers to self-serve on-line, at ATMs and kiosks, and via widespread external network of retail mercha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verage existing payment industry infrastructure, products and servi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e relatively inexpensive and commercially available off-the-shelf-hardware and softwa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pplicable to all modes and agenc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agencies involved in concept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agencies have or will have pi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685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48CA0-9AC3-4DCD-A662-A97845533205}" type="slidenum"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ter railroad pilo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 txBox="1"/>
          <p:nvPr/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pilot for each LIRR and MN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-board and off-board pay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us test handheld de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ilots commence in 1Q 20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Slide Number Placeholder 3"/>
          <p:cNvSpPr/>
          <p:nvPr/>
        </p:nvSpPr>
        <p:spPr>
          <a:xfrm>
            <a:off x="685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160A5-79B1-425D-B1A9-BA0854BC28C2}" type="slidenum"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Slide Number Placeholder 5"/>
          <p:cNvSpPr/>
          <p:nvPr/>
        </p:nvSpPr>
        <p:spPr>
          <a:xfrm>
            <a:off x="685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B1202-8448-4547-A404-49AC2A8E719E}" type="slidenum"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dustry outrea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 indent="-457200">
              <a:lnSpc>
                <a:spcPct val="8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uppli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457200">
              <a:lnSpc>
                <a:spcPct val="8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it authorit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Slide Number Placeholder 5"/>
          <p:cNvSpPr/>
          <p:nvPr/>
        </p:nvSpPr>
        <p:spPr>
          <a:xfrm>
            <a:off x="685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12D50-7023-499F-8EE1-85D2915AEEA5}" type="slidenum"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dustry outreach: Suppli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despread industry interest about this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y 10: 150 representatives from 80 vend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yment industry including banks and other issuers, card brands, acquir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integ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rdware manufactur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reless network carr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re collection system suppl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ervice compan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Slide Number Placeholder 5"/>
          <p:cNvSpPr/>
          <p:nvPr/>
        </p:nvSpPr>
        <p:spPr>
          <a:xfrm>
            <a:off x="685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4925F-13FB-42A3-AC7E-EAA8C2217533}" type="slidenum"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8915400" cy="76212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dustry outreach: Transit author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8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rrent implementations of open pay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ndon (Tf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lt Lake City (UT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close contact with major US transit systems that are procuring open payment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ing with regional partners on seamless intermodal tra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J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NYNJ/PA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7T18:28:26Z</dcterms:created>
  <dc:creator>Amy Linden</dc:creator>
  <dc:description/>
  <dc:language>en-US</dc:language>
  <cp:lastModifiedBy>Amy Linden</cp:lastModifiedBy>
  <cp:lastPrinted>2011-05-17T22:27:13Z</cp:lastPrinted>
  <dcterms:modified xsi:type="dcterms:W3CDTF">2011-05-19T17:45:26Z</dcterms:modified>
  <cp:revision>458</cp:revision>
  <dc:subject/>
  <dc:title>New Fare Payment Systems</dc:title>
</cp:coreProperties>
</file>